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AB6-3B68-4712-95BF-B1C28844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FFA-3E50-4927-956F-FB7FBEF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1FB-6496-4851-A62D-B9E54CCE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8C8-6CC7-4459-A410-1A206745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DC4-E315-4D26-9269-3EBBBC88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926-3A75-49DA-B687-77E53A4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C50-8C10-489A-83A1-DF2FA4D4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2CC-E329-4D7B-95E7-37B0159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B6C-7A5A-4A59-B131-735C02B3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536-36A0-404E-A8E4-0D7FEA2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0CC-9F1B-4D9D-AAD1-292A5D2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B97-F9FF-4084-B943-D2986226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8A65-B029-4BE1-A3B8-69EFD518284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0 Sám, Pane, prebuď svojich svedko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, Pane, prebuď svojich svedk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ion tvoj by verne stráži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dľa vzoru dávnych predk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mena tvojho smelo háji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tvojej spáse zvesť sa rozniesť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uverí svet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e vďaku vz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Duch tvoj lásk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blížnym n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ých srdciach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é teba vzýv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tvoja pravda mocne svi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u 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čo spásu hľad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Božej pravdy lúče spočin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m sa aj mraky hriechu rozply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nebies rosa polia zvlaž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žatva sveta dokončí sa v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tvojich žencov práca blaž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zachrániť chceš každý vzácny k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chválospev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ďačné budú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pasení tvár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u budú zrie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5:29:30Z</dcterms:modified>
  <cp:revision>44</cp:revision>
  <dc:subject/>
  <dc:title>Je veľký náš Pán, on slávy je Kráľ Nech do všetkých strán  spev vrúcnych znie chvál.</dc:title>
</cp:coreProperties>
</file>